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43F-6393-4344-8871-A9525458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DDF-39DC-478D-B630-3CF45F3E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8B8-2545-4ACB-BC2B-B27FECEA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5224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826600"/>
            <a:ext cx="1987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C57-9097-4BED-A049-AB05B23C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952-75A3-4138-8310-B6949EC4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E57-7453-4C18-8FA2-7BD6E05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EE4-E7D3-4FC2-991B-6FB0D235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C8C-38A5-4A0A-8D46-2BA33D9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4640"/>
            <a:ext cx="617220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698-2033-4A77-B9B6-EA39488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F70-85A9-4BED-B8E9-9E326C4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82660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A47-B1F5-4839-9C84-696B2AD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52240"/>
            <a:ext cx="301176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826600"/>
            <a:ext cx="6172200" cy="317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A16-1C24-4210-80E3-3BF942A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4640"/>
            <a:ext cx="61722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52240"/>
            <a:ext cx="6172200" cy="66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78560"/>
            <a:ext cx="1600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78560"/>
            <a:ext cx="217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78560"/>
            <a:ext cx="16002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DA4-73DF-4A2E-BEC3-EF352084EC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6858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メイリオ"/>
              </a:rPr>
              <a:t>PPC</a:t>
            </a:r>
            <a:r>
              <a:rPr b="1" lang="ja-JP" sz="1800" spc="-1" strike="noStrike">
                <a:solidFill>
                  <a:srgbClr val="ffffff"/>
                </a:solidFill>
                <a:latin typeface="メイリオ"/>
              </a:rPr>
              <a:t>　</a:t>
            </a:r>
            <a:r>
              <a:rPr b="1" lang="en-US" sz="1800" spc="-1" strike="noStrike">
                <a:solidFill>
                  <a:srgbClr val="ffffff"/>
                </a:solidFill>
                <a:latin typeface="メイリオ"/>
              </a:rPr>
              <a:t>Marketing</a:t>
            </a:r>
            <a:r>
              <a:rPr b="1" lang="ja-JP" sz="1800" spc="-1" strike="noStrike">
                <a:solidFill>
                  <a:srgbClr val="ffffff"/>
                </a:solidFill>
                <a:latin typeface="メイリオ"/>
              </a:rPr>
              <a:t>　</a:t>
            </a:r>
            <a:r>
              <a:rPr b="1" lang="en-US" sz="1800" spc="-1" strike="noStrike">
                <a:solidFill>
                  <a:srgbClr val="ffffff"/>
                </a:solidFill>
                <a:latin typeface="メイリオ"/>
              </a:rPr>
              <a:t>Analysis</a:t>
            </a:r>
            <a:r>
              <a:rPr b="1" lang="ja-JP" sz="1800" spc="-1" strike="noStrike">
                <a:solidFill>
                  <a:srgbClr val="ffffff"/>
                </a:solidFill>
                <a:latin typeface="メイリオ"/>
              </a:rPr>
              <a:t>　事前ヒアリングシ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9793440"/>
            <a:ext cx="6858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1" descr="クラウドマネージメント協会ロゴ.jpg"/>
          <p:cNvPicPr/>
          <p:nvPr/>
        </p:nvPicPr>
        <p:blipFill>
          <a:blip r:embed="rId1"/>
          <a:stretch/>
        </p:blipFill>
        <p:spPr>
          <a:xfrm>
            <a:off x="4724280" y="9337680"/>
            <a:ext cx="1513080" cy="398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1"/>
          <p:cNvSpPr/>
          <p:nvPr/>
        </p:nvSpPr>
        <p:spPr>
          <a:xfrm>
            <a:off x="549360" y="360360"/>
            <a:ext cx="580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の度は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C Marketing Analysi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お申し込みをいただき、誠にありがとうござ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御社の営業・商品戦略に即した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広告の運用を行うため、以下のヒアリング項目へ回答のご協力をお願い申し上げ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2"/>
          <p:cNvSpPr/>
          <p:nvPr/>
        </p:nvSpPr>
        <p:spPr>
          <a:xfrm>
            <a:off x="404640" y="863640"/>
            <a:ext cx="6021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１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御社の強みポイント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社の強みだと思えるポイント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つ以上選択し具体的に記載願います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るべく詳細まで記載頂く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広告運用におけるキーワード選定や広告文作成に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しっかり反映することが可能になります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3"/>
          <p:cNvSpPr/>
          <p:nvPr/>
        </p:nvSpPr>
        <p:spPr>
          <a:xfrm>
            <a:off x="765000" y="1727280"/>
            <a:ext cx="5400720" cy="2436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［強みポイント］　　［具体的には・・・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例＞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対応・接客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引き渡し後年１回定期訪問し、住宅の不具合箇所診断を行っ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限定　　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希少性　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提案　　　　　：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トレンド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価格訴求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威光　　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キャンペーン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対応・接客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付加価値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顧客数　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比較　　　　　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404640" y="5546880"/>
            <a:ext cx="60217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３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ＰＲしたいキーワード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インターネットによる販売促進で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広告を表示させたいキーワ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御社がブランドとして育てたいキーワードなど）を記載ください。（５個以内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記載いただいたキーワードの上位表示入札単価や市場性を調査し、絞り込み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行います。そのワードを元に広告費試算やサイト内容との適合性分析も行っ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参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社名検索への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広告表示も可能ですが、新規客をサイトに誘致する目的であれば、それ以外が好まし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　　と考えられ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5"/>
          <p:cNvSpPr/>
          <p:nvPr/>
        </p:nvSpPr>
        <p:spPr>
          <a:xfrm>
            <a:off x="765000" y="7059600"/>
            <a:ext cx="5305680" cy="134136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健康住宅　子育て応援　屋根ドクター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6"/>
          <p:cNvSpPr/>
          <p:nvPr/>
        </p:nvSpPr>
        <p:spPr>
          <a:xfrm>
            <a:off x="482400" y="8427960"/>
            <a:ext cx="5959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会社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　　お役職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お名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ご連絡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広告対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7"/>
          <p:cNvSpPr/>
          <p:nvPr/>
        </p:nvSpPr>
        <p:spPr>
          <a:xfrm>
            <a:off x="404640" y="871524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8"/>
          <p:cNvSpPr/>
          <p:nvPr/>
        </p:nvSpPr>
        <p:spPr>
          <a:xfrm>
            <a:off x="404640" y="900432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04640" y="9291600"/>
            <a:ext cx="61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1306800" y="9361440"/>
            <a:ext cx="23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ご協力ありがとうございました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1" descr="インターロジックロゴ"/>
          <p:cNvPicPr/>
          <p:nvPr/>
        </p:nvPicPr>
        <p:blipFill>
          <a:blip r:embed="rId2"/>
          <a:stretch/>
        </p:blipFill>
        <p:spPr>
          <a:xfrm>
            <a:off x="2712960" y="9361440"/>
            <a:ext cx="12207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2"/>
          <p:cNvSpPr/>
          <p:nvPr/>
        </p:nvSpPr>
        <p:spPr>
          <a:xfrm>
            <a:off x="338040" y="4176720"/>
            <a:ext cx="65534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２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】</a:t>
            </a:r>
            <a:r>
              <a:rPr b="1" lang="ja-JP" sz="1400" spc="-1" strike="noStrike">
                <a:solidFill>
                  <a:srgbClr val="000066"/>
                </a:solidFill>
                <a:latin typeface="Arial"/>
              </a:rPr>
              <a:t>ターゲット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商品やサービスの提供対象として考えておられるターゲットの年齢層・性別・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ニーズ等について記載をお願いしま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1733040" y="4836960"/>
            <a:ext cx="3506040" cy="7030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＜例＞　４０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５０代　男女　両親の長寿内祝いをインターネットで探している人　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7:21:59Z</dcterms:created>
  <dc:creator>YOKOTA</dc:creator>
  <dc:description/>
  <dc:language>en-US</dc:language>
  <cp:lastModifiedBy>Yokota Aya</cp:lastModifiedBy>
  <dcterms:modified xsi:type="dcterms:W3CDTF">2012-05-14T02:32:59Z</dcterms:modified>
  <cp:revision>12</cp:revision>
  <dc:subject/>
  <dc:title>スライド 1</dc:title>
</cp:coreProperties>
</file>